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lick to move the slid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53DD-2405-4ED9-AF92-7161FE39B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C08D-A439-421C-AC5B-3AC6782FF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04DA-A56C-48D1-BA37-5D10D8047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69E9-C904-4746-A152-B72439333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restore a single file, folder, or an entire drive’s worth of files/fol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10D2-DCD9-4EC9-B4EC-5259E0123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0B5C-38FB-4017-BB1B-C01DD9D15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C38E-17B8-4856-80D7-3C4D71B8B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choose to restore files to their original locations or to a different lo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BF40-FE0F-4EF6-8ED1-EEFE397C3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0573-B15C-4A24-882C-0FA3C4517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rive your operating system resides on fails or the computer fails for any reason, you can use a system image on the same machine (replacing the hardware that caused the failure) or another machine to get your users back up and running as quickly as pos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E2C2-458A-4D6F-A004-8F398C325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0DE5-06D3-449D-801E-EF25837E9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4110-985A-4172-AB7B-B4418C35A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E3BA-5979-46E3-9337-760D56811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4F1D-C680-4E1D-8A5A-6A13A6C7B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A912-5919-4499-906A-13CE5F4E8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399E-ED0E-4AAA-8C1B-EB0095F1E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anufacturers also include recovery tools on a special partition or volume on the primary hard disk, and provide a graphical user interface to access the t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50C2-0123-4031-83C2-CDDA18D47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3B57-353D-4B2A-816D-5F4C7C35E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6A39-C67B-4C34-8DAE-673E7A537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C7A2-F39F-4393-9A73-B6FBD21DB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8042-3EE1-4022-A4B7-EB80817B6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13FD-0E3C-4062-89B3-FC48A5B11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3C2A-FCEB-4F93-AA81-F3889CC56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C5ED-5BCD-421A-8DF1-555629CF7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E226-260B-4CD0-B5B4-7CD532CCE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37DC-2DAF-408D-A8BA-C26C393AF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6F48-0DC5-403A-B2A9-D7AF9D33F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F22B-5B39-4C6D-AEFD-C3991150D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7BC3-42E7-4E12-B65F-1F93BAEB1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519D-8FF5-4F91-9F5A-43C0D8BBB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53F1-58AE-4D15-B0C2-23A46CF2F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1483-E4ED-47D9-83E0-C5628FADC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A182-F64A-40E8-BFAC-553863205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AC44-0FA1-44EC-8D8F-233BD4248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D046-2D13-4C19-841E-05C659019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se a system image you created earlier to recover your compu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Choose this option if you have a system image; this option re-installs your applications and system settings also. If you do not have a system image backup, choose the Reinstall Windows op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install Windows (requires Windows installation disc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This option sets the machine back to ground zero (before you installed any applications or created any folders/files). If you have a backup, you can reinstall Windows and then restore your files from a back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6CB7-7C6C-4032-9413-937DE5E73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60B2-A710-4B5F-998F-2FBFBFCB0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6497-31D8-4816-B54F-D1D8C31FB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62DA-4809-4EB4-BD5F-6883E3754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5D73-898D-48A5-9C68-D08A65DC3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FD41-0D3D-4A1F-8CA5-047B19CC8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5B12-A967-4863-AF08-36AF567C8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A932-F868-4775-8486-F29EA850C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971F-6A91-412A-8033-3F52B7F60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7E34-7546-46C5-A3F4-E6075D01E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4EAA-EC8B-4CE5-AA0A-4D2B48C0A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801-DE4B-4FCE-9839-E7B4398E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48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AF34-BFF4-42FA-8BCD-F6032617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48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48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547-02E0-41DB-ACCE-120F90F1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48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48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48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B50-C08C-4D7E-BCC3-1BB054EE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98A-B072-4CEA-99CB-0AB4C50A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A17-8985-4E13-808D-737FA9C6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A10C-F021-47F7-893A-E277A01B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19A7-8A6B-41BD-9163-E0969B27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504-BADB-47CD-B3CE-9FFF3A70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48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932-E4A4-458E-A48A-F2731880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48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C4C-3C2C-4EB2-A0A2-8734DB92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48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DF9-3B3E-42A9-9702-B6E652FF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d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6046920"/>
            <a:chOff x="414360" y="426960"/>
            <a:chExt cx="8315280" cy="604692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60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5760" y="473040"/>
              <a:ext cx="8232480" cy="59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9A06-2C41-4633-978D-7CA530D9A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ounded Rectangle 6"/>
          <p:cNvSpPr/>
          <p:nvPr/>
        </p:nvSpPr>
        <p:spPr>
          <a:xfrm>
            <a:off x="304920" y="1452600"/>
            <a:ext cx="8532720" cy="304308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Rounded Rectangle 8"/>
          <p:cNvGrpSpPr/>
          <p:nvPr/>
        </p:nvGrpSpPr>
        <p:grpSpPr>
          <a:xfrm>
            <a:off x="414360" y="1523880"/>
            <a:ext cx="8315280" cy="2901960"/>
            <a:chOff x="414360" y="1523880"/>
            <a:chExt cx="8315280" cy="2901960"/>
          </a:xfrm>
        </p:grpSpPr>
        <p:pic>
          <p:nvPicPr>
            <p:cNvPr id="55" name="Rounded Rectangle 8" descr=""/>
            <p:cNvPicPr/>
            <p:nvPr/>
          </p:nvPicPr>
          <p:blipFill>
            <a:blip r:embed="rId1"/>
            <a:stretch/>
          </p:blipFill>
          <p:spPr>
            <a:xfrm>
              <a:off x="414360" y="1523880"/>
              <a:ext cx="8315280" cy="29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36680" y="1546200"/>
              <a:ext cx="8270640" cy="28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225520"/>
            <a:ext cx="853452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cc"/>
                </a:solidFill>
                <a:latin typeface="Franklin Gothic Medium"/>
              </a:rPr>
              <a:t>Understanding Backup and</a:t>
            </a:r>
            <a:br>
              <a:rPr sz="3800"/>
            </a:br>
            <a:r>
              <a:rPr b="0" lang="en-US" sz="3800" spc="-1" strike="noStrike">
                <a:solidFill>
                  <a:srgbClr val="0000cc"/>
                </a:solidFill>
                <a:latin typeface="Franklin Gothic Medium"/>
              </a:rPr>
              <a:t>Recovery Methods</a:t>
            </a:r>
            <a:endParaRPr b="0" lang="en-US" sz="38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3124080"/>
            <a:ext cx="8183520" cy="10670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rm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Lesson 8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Backing Up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77" name="Content Placeholder 2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2578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Backing Up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79" name="Content Placeholder 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1668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storing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81" name="Content Placeholder 2" descr=""/>
          <p:cNvPicPr/>
          <p:nvPr/>
        </p:nvPicPr>
        <p:blipFill>
          <a:blip r:embed="rId1"/>
          <a:stretch/>
        </p:blipFill>
        <p:spPr>
          <a:xfrm>
            <a:off x="1905120" y="1684440"/>
            <a:ext cx="525780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storing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83" name="Content Placeholder 2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storing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85" name="Content Placeholder 2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storing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87" name="Content Placeholder 2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25780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Previous Version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Each time a file is saved with changes, a previous version is created so you can roll back to an earlier version of a document if needed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Right-click the file in Windows Explorer and choose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Restore previous version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e document will be restored to its original location.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System Imag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n image of an entire hard drive that includes all files needed to restore your operating system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y default, includes the Windows folder, all system settings, programs, and file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System Imag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ystem image storag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CD/DVD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Hard driv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USB driv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Network location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System Imag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wo methods for creating a system imag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Creating a system image as part of the automatic Windows Backup process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Creating a system image manually, which involves running the backup wizard and selecting the drives you want to include in the imag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Objectiv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71680" y="1752480"/>
          <a:ext cx="8001000" cy="2667240"/>
        </p:xfrm>
        <a:graphic>
          <a:graphicData uri="http://schemas.openxmlformats.org/drawingml/2006/table">
            <a:tbl>
              <a:tblPr/>
              <a:tblGrid>
                <a:gridCol w="3146400"/>
                <a:gridCol w="3063600"/>
                <a:gridCol w="1791000"/>
              </a:tblGrid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Objective Domain Matr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echnology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bjective Domain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bjective Domain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Understanding Local, Online, and Automated Backup Meth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Understanding Local, Online, and Automated Backup Meth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Understanding Backup O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Understanding Backup O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Understanding System Res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Understanding System Res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Understanding Recovery Boot O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Understanding Recovery Boot O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Understanding Safe Mode O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Understanding Safe Mode O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reating a System Imag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97" name="Content Placeholder 2" descr=""/>
          <p:cNvPicPr/>
          <p:nvPr/>
        </p:nvPicPr>
        <p:blipFill>
          <a:blip r:embed="rId1"/>
          <a:stretch/>
        </p:blipFill>
        <p:spPr>
          <a:xfrm>
            <a:off x="1981080" y="1674720"/>
            <a:ext cx="525780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reating a System Imag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99" name="Content Placeholder 2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2578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reating a System Imag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25780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reating a System Imag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03" name="Content Placeholder 3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2578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pairing a Windows Installation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ystem repair disc: A bootable disc you create in Windows 7 that contains Windows system recovery tool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se the repair disc to attempt to start a failed computer, or to restore a computer from a system imag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reate a system repair disc or use the recovery tools on the Windows installation medi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reate a System Repair Disc Command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681200" y="17524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1743120" y="2733840"/>
            <a:ext cx="1305000" cy="277560"/>
          </a:xfrm>
          <a:prstGeom prst="rect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storing an Imag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ree methods for restoring a system imag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Restoring a system image using the Recovery applet in Control Pan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Restoring a system image using preinstalled recovery options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Restoring a system image using a Windows installation or system repair disc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The Recovery Applet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12" name="Content Placeholder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The Recovery Applet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14" name="Content Placeholder 3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892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The Recovery Applet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16" name="Content Placeholder 3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197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File Backup and Restor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backup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is a properly secured copy of files and folders—and sometimes settings—usually saved in a compressed format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 backup is created so you can 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restore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the files and settings in the event of data loss from a hard disk failure, accidental erasure or disk formatting, or natural events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The Recovery Applet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18" name="Content Placeholder 2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The Recovery Applet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20" name="Content Placeholder 3" descr=""/>
          <p:cNvPicPr/>
          <p:nvPr/>
        </p:nvPicPr>
        <p:blipFill>
          <a:blip r:embed="rId1"/>
          <a:stretch/>
        </p:blipFill>
        <p:spPr>
          <a:xfrm>
            <a:off x="2828880" y="3052800"/>
            <a:ext cx="348624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Preinstalled Recovery Option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22" name="Content Placeholder 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System Repair Disc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24" name="Content Placeholder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System Restor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ses the System Protection feature to create restore point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Restore point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can be used to roll back your system to an earlier point in tim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Restore points are created automatically on a weekly basis and any time you make a change to your computer (such as installing a new application or device driver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an create restore points manuall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reating a System Restore Point Manually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28" name="Content Placeholder 2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905440" cy="44802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1752480" y="2897280"/>
            <a:ext cx="990720" cy="279360"/>
          </a:xfrm>
          <a:prstGeom prst="rect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reating a System Restore Point Manually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31" name="Content Placeholder 2" descr=""/>
          <p:cNvPicPr/>
          <p:nvPr/>
        </p:nvPicPr>
        <p:blipFill>
          <a:blip r:embed="rId1"/>
          <a:stretch/>
        </p:blipFill>
        <p:spPr>
          <a:xfrm>
            <a:off x="2543040" y="1704960"/>
            <a:ext cx="4057920" cy="45147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5105520" y="4878360"/>
            <a:ext cx="1143000" cy="279360"/>
          </a:xfrm>
          <a:prstGeom prst="rect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reating a System Restore Point Manually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34" name="Content Placeholder 2" descr=""/>
          <p:cNvPicPr/>
          <p:nvPr/>
        </p:nvPicPr>
        <p:blipFill>
          <a:blip r:embed="rId1"/>
          <a:stretch/>
        </p:blipFill>
        <p:spPr>
          <a:xfrm>
            <a:off x="2567160" y="1714680"/>
            <a:ext cx="4009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storing a System Using System Restor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36" name="Content Placeholder 2" descr=""/>
          <p:cNvPicPr/>
          <p:nvPr/>
        </p:nvPicPr>
        <p:blipFill>
          <a:blip r:embed="rId1"/>
          <a:stretch/>
        </p:blipFill>
        <p:spPr>
          <a:xfrm>
            <a:off x="1809720" y="1747800"/>
            <a:ext cx="5524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storing a System Using System Restor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38" name="Content Placeholder 2" descr=""/>
          <p:cNvPicPr/>
          <p:nvPr/>
        </p:nvPicPr>
        <p:blipFill>
          <a:blip r:embed="rId1"/>
          <a:stretch/>
        </p:blipFill>
        <p:spPr>
          <a:xfrm>
            <a:off x="1809720" y="1747800"/>
            <a:ext cx="5524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File Backup and Restor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indows Backup uses the Backup and Restore utility to back up and recover files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You can automatic backups by scheduling them to run daily, weekly, or monthly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You can store backups on CD/DVD, to another internal disk, to an external drive, or to a network drive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2714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Only Windows 7 Professional, Ultimate, and Enterprise editions enable file backups to a network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storing a System Using System Restor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40" name="Content Placeholder 2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476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Advanced Recovery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wo primary options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Use a system image you created earlier to recover your computer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Reinstall Windows (requires Windows installation disc)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covery Boot Option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lso called advanced startup option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rovide tools to help you repair a broken Windows 7 installa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Options are found on the Advanced Boot Options page, which you access when the computer first begins to boot by pressing the F8 key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Tip: Press and hold the </a:t>
            </a:r>
            <a:r>
              <a:rPr b="1" lang="en-US" sz="3000" spc="-1" strike="noStrike">
                <a:solidFill>
                  <a:srgbClr val="000000"/>
                </a:solidFill>
                <a:latin typeface="Franklin Gothic Book"/>
              </a:rPr>
              <a:t>F8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 key as soon as the computer begins to boot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covery Boot Option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46" name="Content Placeholder 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Summary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 backup is a properly secured copy of files and folders—and sometimes settings—usually saved in a compressed format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 backup is created so you can restore the files and settings in the event of data loss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Windows Backup uses the built-in Backup and Restore utility to enable you to back up and recover files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 system image is an image of an entire hard drive that includes all files needed to restore your operating system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Summary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 system repair disc is a bootable disc you create in Windows 7 that contains Windows system recovery tools. You can use the repair disc to attempt to start a failed computer, or to restore a computer from a system image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You can use System Restore to roll back your system files and applications to a time when the PC was working properly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Summary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ystem Restore uses the System Protection feature to create restore points. Restore points can be used to roll back your system to an earlier point in time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Recovery boot options, also referred to as advanced startup options, provide you with tools to help you repair a broken Windows 7 installation. The options are found on the Advanced Boot Options menu, which you access when the computer first begins to boot by pressing the F8 key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Backing Up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67" name="Content Placeholder 6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01992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Backing Up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69" name="Content Placeholder 2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2578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Backing Up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71" name="Content Placeholder 2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2578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Backing Up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73" name="Content Placeholder 2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2578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Backing Up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75" name="Content Placeholder 2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2578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4:18Z</dcterms:created>
  <dc:creator>Cat Skintik</dc:creator>
  <dc:description/>
  <dc:language>en-US</dc:language>
  <cp:lastModifiedBy>WileyService</cp:lastModifiedBy>
  <dcterms:modified xsi:type="dcterms:W3CDTF">2012-05-08T15:44:42Z</dcterms:modified>
  <cp:revision>309</cp:revision>
  <dc:subject/>
  <dc:title>Slide 1</dc:title>
</cp:coreProperties>
</file>